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484-32BD-415C-BF51-D6E064A0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7D0-077B-4A5C-AFC3-9A790CB1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1FC-069F-47BD-B0E6-A2EACE8D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9D8-EC07-4055-A80A-D75241B0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2AA-51C5-4FCA-A791-633BCA5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A04-24C6-406A-B613-FDD0363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6D6-93F3-4553-A1CC-8C8F0BE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991-7D4B-4863-8BB8-66D603D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E19-CA9B-4450-A516-855FE092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38F-95F8-4B2D-9E14-3ECCD30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2F6-B77E-4478-A73F-2488913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8CC-503C-455C-8A67-F3E65AD8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DA51-5A63-4550-A307-97B3CC71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pcwr67gf/signbot.gif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chigan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flags/michigan/michiganflag.s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30d4"/>
            </a:gs>
            <a:gs pos="50000">
              <a:srgbClr val="d01616"/>
            </a:gs>
            <a:gs pos="100000">
              <a:srgbClr val="2c30d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0" y="48769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er Dow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19/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#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848720" cy="255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Name: Mich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ol: L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:9,938,4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ed the Union: date entered/number entered: January 26,1837: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to :if you seek a pleasant Peninsula, look abou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name: Wolverine state/ Great Lakes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er: Apple Bloss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: Ro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: Michigan, My Michi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 behind name: Based on Chippewa Indian 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Stone: Petoskey S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tree: White P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st cities: Detroit, Grand Rapids, Warren, Flint, and L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 States: Illinois, Indiana, Wisconsin, and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4876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00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3740040"/>
            <a:ext cx="5105520" cy="311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2209680"/>
            <a:ext cx="5105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’s Guide to U.S Governmen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higan’s 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3/22/2012, http://bensguide.gpo.gov/3-5/state/michigan.htm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Michigan’s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3809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hanted Learning, Map Of Michigan, 3/22/2012, http://www.enchantedlearning.com/USA/states/michig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lack star is show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igan’s Capi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ll images Copyright © 1997 - 2000 WriteLine. All Rights Reserved. Model A Ford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228600"/>
            <a:ext cx="23623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nry Ford E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ostcards,             3/22/2012 http://www.postcardsfrom.com/t1/98061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enry Fords E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 Windmill, Holland MI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304920"/>
            <a:ext cx="2438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land Michigan, Postcards, 3/22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postcardsfrom.com/t1/980609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picture of Holland 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0:21Z</dcterms:created>
  <dc:creator>install</dc:creator>
  <dc:description/>
  <dc:language>en-US</dc:language>
  <cp:lastModifiedBy>install</cp:lastModifiedBy>
  <dcterms:modified xsi:type="dcterms:W3CDTF">2012-04-16T13:04:46Z</dcterms:modified>
  <cp:revision>8</cp:revision>
  <dc:subject/>
  <dc:title>Slide 1</dc:title>
</cp:coreProperties>
</file>